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7E4552-B15A-46AD-99AA-9CC8924B6A6D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70910F-6837-4D26-901B-B3074B0D3D83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6C4-EF4F-4648-8C93-E3E3A3B6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EE7-533B-4BC9-AB8A-3D7BB9EE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39E-EC3D-4B60-8656-1CBF8C6A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961-F7A3-456B-B3FB-2C770373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EB98-4FBD-4146-B4D8-4CEB7B35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5F02-268F-4B67-AC7A-FADBBA1C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A2F8-EAAD-4BB5-888B-CEB8306B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7673-8E49-4DF8-8CE0-011B9D4E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BFAF-DA14-4BFC-9F52-A8286D4A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438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C47A-4C6A-4C63-8C23-8BCFAC6E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B0AB-E21D-4888-8B96-F8C94F83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1E4-2F0F-458B-97A1-1BEAEDD7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85CB-E9B2-4FAC-A5EA-C49EE82C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8E00-C95F-4244-8C03-6418655B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5B77-54C9-4659-AC6F-F59FDC68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C0A7-B9A7-4FF9-9CD7-EEA9101A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C40D-1D07-4460-A513-D68015D4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D09-AFAB-41E5-8909-0F199D87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A6E-8E0A-446E-AA8B-750B429E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189-ED03-4010-A7A5-3E7F951F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438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0C1-6C34-4BFF-BE3F-B97F8A40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FFE-09A0-4137-93A3-15C55B0E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912-43DF-46FA-8951-C1AA4C88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724-311C-4091-AABC-914CAF6B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4800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3268-3E78-4F7E-8472-264E426E899B}" type="slidenum">
              <a:rPr b="0" lang="ja-JP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403280" y="1052640"/>
            <a:ext cx="75614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blackducksoftware.com/android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source.android.com/porting/power_management.html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vents.linuxfoundation.org/events/embedded-linux-conference/" TargetMode="External"/><Relationship Id="rId2" Type="http://schemas.openxmlformats.org/officeDocument/2006/relationships/hyperlink" Target="http://elinux.org/ELC_2011_Presentation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vents.linuxfoundation.org/events/android-builders-summit/" TargetMode="External"/><Relationship Id="rId2" Type="http://schemas.openxmlformats.org/officeDocument/2006/relationships/hyperlink" Target="http://events.linuxfoundation.org/events/android-builders-summit/slides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916280"/>
            <a:ext cx="828036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bedded Linux Conference 201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roid Builders Summit 201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28680" y="388620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ナソニック株式会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加藤 慎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Snapshot Booting on Embedded Linu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Kang Dongwook (ETR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ワップテーブル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napshot Ima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へのリンクを作っておき，スワップの仕組みを使って，組込みで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napsho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ートを実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シャットダウン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使っていたメモリページを全て退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ブート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メモリをレストア、そしてジャン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使っ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N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読み込み時間を改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5.19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vs 23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.82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vs 22.98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napshot Boot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oot Loader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時間が短縮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シー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シャットダウンの時間は延びる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以上長くなる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フリーのメモリ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ページ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が十分足りる場合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半分以上フリーページが必要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NAN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サイズが十分足りる場合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はスナップショット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M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越え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Linaro : A Year of Chan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David A Rusling (Linaro, CTO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T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としての発表だが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Fello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ここ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年で思ったこ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搭載物は“典型的な”組込み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以外に移ってき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多様性は歓迎するが，フラグメンテーション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pstream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欠乏は非効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ラボレーションが欠け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M Linux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向けに活動しているエンジニアが十分で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組込み向け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違いができてしまうの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のタイムラインが短く，また最新のオープンソースに基づいてい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が多岐にわた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So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yst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roprietar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部分が価値にな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立上げ，コアエンジニアは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使う上での共通な組込み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問題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pstrea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解決するべく，オープンに活動し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どのように運営されている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メンバーによって技術課題を挙げて，ワークグループを立上げ，解決してい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今は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oolchai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フォーカス．今後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もフォーカス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oolchain W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対象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ｖ７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umb 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対象：コ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olchai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lib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inutil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itle : Optimization for Cheap Flash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Speaker : Arnd Bergmann (IB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次の日に別テーマで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を担当した人物．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メンバーでもあ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安い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を最大限に活用するために，という題目だが，内容は，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Wear Leveling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とガベッジコレクションについてのレクチャ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一般的な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Wear Leveling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ガベッジコレクションの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リニアアクセス，ブロッ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マッピング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ata 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Title : RT-Preempt : What’s The State and Why There is No Roadma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Speaker : Thomas Gleixner (linutronix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著名な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メンテナー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分野：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Real-Tim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RT-Preempt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現状について，と，今後の展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T-Preemp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最新の安定版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.6.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al-Tim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関して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inlin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入っているも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ハイレゾタイマ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Mutex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仕組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一般的な割り込みハンドラの仕組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スペース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Mutex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優先度継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reemptibl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な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C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レッド割り込みハンド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強制スレッド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irq/softi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トレースの仕組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残っているも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reemptible mmu gather (2.6.40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でのメインライン化を目指している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erCUP modific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reemptible memory and page alloc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oft-interrupt modific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leeping spinloc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いつメインラインに入るか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007,2008,2009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にそれぞれ「リアルタイムのパッチはほとんど，年の終わりにはマージされるだろう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by Jonathan Corbet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」といわれてきた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，まだマージされていな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実際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dhat,IBM,OSADL,Linutronix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テストに多大な努力もしてい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ぜロードマップがないのか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我々はパワーポイントは使わない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我々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Kernel Developer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だ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メインライン化の道を探しているところだ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だけど・・・ロードマップはあるよ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と言って，「会場の地図」を見せた。会場爆笑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後に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us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有名なセリ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nd yeah, I still think the hard-RT people are mostly crazy (by Linux - 2010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Title : High-Performance Computing using GP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 : Mike Anderson (The PRT Grou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最近のトレン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プロセッサ：マルチコ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ビデオやゲーム：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3D, 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ストリーミン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マルチコアで性能向上するために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スレッド並列処理がより重要にな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データの並列処理はより考えられたものにする必要があ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GPU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搭載のモバイルデバイスが当たり前にな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のアプリケーションはすでに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GPU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対応が考えられてい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Integrating a Hardware Video Codec into Android Stagefright using OpenMAX 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Damian Hobson Garcia (Ig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droid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agefright media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ideo/Audi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録音の仕組み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ソフトウェアコーデッ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してデフォルトで搭載されてい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モバイルプラットフォーム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920x1080@30fp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ビデオ再生をした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gefright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ソフトウェアコーデッ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ハードウェアコーデッ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H.264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gefrigh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どう入れる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penMAX IL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う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Bellagio OpenMAX 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験環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nesas SH (ARM Cortex-A8 @ 800M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penMA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src/base/omx_base_*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流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ソースは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rameworks/base/media/libstagefright/OMXCodec.cpp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み修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bstagefrighthw.s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quirk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いうものも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How to Power Tune a Device Running on a Linux Kernel for Better Suspend Battery Li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Mark Gross (Int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内容は，省電力のレクチャ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まずは形式的に検討部分を分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重要でない部分は検討から除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pec Sheet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ドライバのソースコード，データバス，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O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知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クロックとパワーコントロールを知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ットフォームの状態を知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ロー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まずはデバイス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ハードウェア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毎に消費電力の初期値を測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その次に省電力パッチやデバドラ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等を実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省電力モードになっていないハードウェア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ickU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て，省電力モードに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Runtime PM, Upstream I/O Device Power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Magnus Damm (Runes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省電力はより重要になってきているが，伝統的な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Power Management(PM)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組込みシステムには完全には適さな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なぜ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のユースケース向けに設計されている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組込みベンダーからのコミュニティへのフィードバックが少ない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組込みベンダー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“ソース非公開”として扱う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ystem-Wide 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s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使った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uspend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があるが，全く違うも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uspend-to-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システム全体の電力断が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uspend-to-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起動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spend-to-Dis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より早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バイスにより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akeu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対応しているかがまちま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3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ハードが対応していても，ソフトが未対応，な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ソフトでの問題であれば，対応させ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PU Runtime 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ループによっ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アの電力を管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ickless CMT 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I/O Device Runtime 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clude/linux/pm_runtime.h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関数を使っ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untime P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実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itle : MeeGo B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Speaker : Alison Chaiken (Nok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について何でも語ろう，という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初めに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トピック説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年の予定：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月に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リリース，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月に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Android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つの比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Android for Servers 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John Stultz(IBM/Linar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技術でサーバにも活用できるものがあるか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技術とは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inux Kernel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下記に分類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バグフィックス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対応 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mem, GPIO Drivers, ARM, MMC, Bluetoo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arly suspend, Wakelocks, Alarm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エラーレポート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gger, Ram_console, Apa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セキュリティ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aranoid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パフォーマンス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shmem, binder, LowMemoryKiller, Yaff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いつ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メインラインにマージされるのか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不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KM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で議論が活発なもの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akelock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in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wMemoryKill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larm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サーバに役立ちそうな技術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wMemoryKill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OM Kill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動く前にアプリ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l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するので，サーバにも使え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akelock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仕組みは省電力に効果があ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RM, MMC, Bluetoo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のバグフィック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Hot Multi-OS Switch: How to run Ubuntu, ChromiumOS, Android at the Same Time on an Embedded Dev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Gregoire Gentil (Always Innovat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マルチ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マルチディスプレイで実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利点：ひとつのキーボード・マウス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それぞれ操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ひとつのビデオコンテンツを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上でそれぞれ再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のに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serspac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いろいろある．では，一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さまざまな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serspac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同時に動作させられない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Beagleboard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使ってマルチ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hroo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利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課題を解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課題：コア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選定，出力制御，入力制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デモ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デモでは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Ubuntu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hromiumOS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，独自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，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つ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hroo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ディストリビューションを起動し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ディスプレイにそれぞれの画面を出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ウスはそれぞれのディスプレイにカーソルがある状態で，マウスを動かすとそれぞれの画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ィストリビューショ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マウスカーソルが動き，キーボードをタイプすると全ての画面で入力されてしま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例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buntu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コマンドライン入力をしていたら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romeO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は検索している，と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ィスプレイ出力に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B-&gt;HDMI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変換デバイスを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出力・入力制御により，マウスカーソ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環境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にして，カーソルをディスプレイ間を移動可能に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環境のうち一つだけに入力制御するように変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同じ再生コンテンツ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上でそれぞれ再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Moving Forward : Overcoming Compatibility Issues BoF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Yoshitake Kobayashi (Toshib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長期スパンのシステムでのハードウェア変更時の課題について議論する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Bo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投げかけ，そ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長期スパンシステムにおいて，ハードウェアを新しくせざるをえなくなった場合に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上位層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ライブラリ，アプリ，テストケース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担保をどうす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新しいハードウェアのドライバを古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バックポートする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新しいハードウェア上で動作する最新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使う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正解は，ハードウェアの特徴やユーザの要求次第であるが，こ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o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ersionU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できない」ユースケースを考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投げかけ，そ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ハードウェアが変わった場合，何かしら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変更は必要になる．その場合のシステム全体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それまでと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互換性はどう確認す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会場の意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のハードウェアを在庫として持っておくしか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自体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定期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していくべきだ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by IB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人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ynot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も担当した人物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意見に対しては他数人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そもそもそれができないシステムでどうするか？を話し合う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oF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だ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理想は分かるが，実際に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きないシステムは存在する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どの意見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mo/Showcas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Yocto Proj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oc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ビルドしたシステムでオーディオ再生，というデ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Google-T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roy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ベース．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6.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KernelSha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tr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レース結果をビジュアル表示するツール．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毎のプロセス占有状態などを表示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Closing Session (1/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事前に参加者にアンケートをとっており，その結果を使ってのイベン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アンケー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2011/04/06 4:44:45 +0900 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Tim 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からのメー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[Members] Help needed for ELC - please take 10-minute surve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壇上で，クイズ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人に聞きました，形式のクイ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全員参加で，いくつかのクイズの回答を事前に書き，その後に答えごとに得点を発表＆答え合わせ．総得点上位者から景品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Ge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位は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Google-T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位は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Google-TV-S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以下，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LWN.net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年間購読権や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O’Reilly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本，な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Closing Session (2/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全員参加のときのクイ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Normal Qu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Name a desktop Linux distribu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Name a popular Linux bootloa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Other than Linus Torvalds, name a famous Linux kernel develop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What is a popular embedded Linux development boar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Name a country where lots of embedded products are ma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Bonus Qu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How many Android phones are activated each day? (gues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What is the average airspeed velocity of an unladen swallow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Closing Session (3/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全員参加のときのクイズ：回答とスコ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ormal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ame a desktop Linux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70:Ubuntu, 11:Fedora, 7:Deb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ame a popular Linux bootlo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53:U-Boot, 25:Grub, 11:L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ther than Linus Torvalds, name a famous Linux kernel 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0:Andrew Morton, 16:Alan Cox, 12:Greg Kroah-Hartman, 5:Ingo Molnar, 3:Ted Tso, 3:Russell 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at is a popular embedded Linux development boar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68:BeagleBoard, 5:PandaBoard, 3:Armadi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ame a country where lots of embedded products are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33:China, 24:Japan, 14:United States, 9:Taiwan, 5:Germany, 3: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onus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ow many Android phones are activated each day? (gu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315,000 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あくまで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L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開催時点．先日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oogle I/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00,00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発表されていました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at is the average airspeed velocity of an unladen swall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回答忘れました・・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Closing Session (4/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91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. Name a leader in the open source mov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 Other than gcc, name one of the programs used to build the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. Name a desktop Linux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. Name a category of consumer electronics product that runs Lin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5. Name a company that makes CPUs for the embedded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 What year was Linux 1.0 releas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7. Name a popular Linux bootlo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8. Name a CPU architecture used in embedded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9. How many Android phones are activated each day? (gu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. Other than Linus Torvalds, name a famous Linux kernel develo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1. Name an important open source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. Name a Linux news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3. What is a popular embedded Linux development boa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4. Name an element of good coding style for the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5. How many attempts does it take to mainline a kernel pat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6. Name a graphics system or API set for Lin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. How many seconds does it take an embedded Linux system to star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8. How long is a jiff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9. Name a source code management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. Name a country where lots of embedded products are m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1. Name an embedded Linux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2. Name a filesystem used in embedded Lin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3. Other than ELC, name a major Linux co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4. Name a Linux subsystem that is large in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5. Name a subsystem in Linux that takes a long time to initialize on b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6. What is the average airspeed velocity of an unladen swall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Motorola Innovation Ris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Christy Wyatt (Motorol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ついて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商品と照らしながらこれまでの流れについて講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か？ 下記がそろっている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ternet Ric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calabilit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dustry Platf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osyste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pen Inno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シェ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pple iO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越え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搭載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モデル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カ国で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70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リリー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次は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torolaXoo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torolaATRIX 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roy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リリースされたときに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対応速度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並び最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プリケーション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万だったのが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で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万に迫る勢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Title : From the Alliance to the Evolution : The History and Future of Android Inno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Speaker : Mark Charlebois (Qualcom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OH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unding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メン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初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端末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 (1.0 HTC -Oct 22,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初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Gz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端末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 (Nexus One -Jan 5, 201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初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搭載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端末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 (HTC Thunderbolt -Mar 1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リリースサイク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upcak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9.7 Month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onu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9.1 Month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clai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7.9 Month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royo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6.7 Mon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Chips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(7x00, 7x25, 7x27, 7x30/8x55, 8x50,8650A, 8x60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向けに用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今後につい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lephony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機能発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LT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eHRP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ｒ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ような技術に対応するフレームワーク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ual SIM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ual Standby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に対応するフレームワー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Nov 20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IM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ツールキッ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SIM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ポー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IPv6 for CDMA/EV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マルチメディアの機能発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QCELP/EVRC encode/decod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ce memo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LPA (low power audio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FM Radio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VG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720p encode/decod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1080p encode/deco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マルチコアサポート．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Trackball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ないデバイスのサポート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eb Core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ebGL in Gingerbread, Enhanced Webkit and V8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商用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bile Web Ap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2P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ケーション は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llJoyn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ugmented Reality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QDevN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ode Aurora Forum (CAF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Qul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Founding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メン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全ての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upstream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の貢献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AF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を通してやってい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現在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ativ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アプリと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アプリには違いがあるが，共通部分が増えてい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ひとつはマルチコアによる恩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Open API Standards as a Foundation for Android Innov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Neil Trevett (NVIDI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グラフィッ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これまでと今後の進化につい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hronos Family of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COLLADA, WebGL, WebC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, OpenGL/ES, EGL, OpenMAX/AL, OpenSL/ES, OpenV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hrono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オープンでロイヤリティフリ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いくつ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ickU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して説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WebG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上で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プラグインなしで可能にす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S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dvanced Audio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に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A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マルチメディア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バイスプラットフォームによ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Chrome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ymbia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などは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I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EG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I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EG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SL/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EGRA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宣伝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ゲームシーンで特に威力を発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Porting Android to New Hard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Karim Yaghmour (Opersy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’Reilly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「組込み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inux System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」本の著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ハードウェアへのポーティングと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についてのレクチャ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ハードウェアにポーティングする際の，変更ポイントをダイジェストで紹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レクチャーの章立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mponents to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ross-development tool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orting the Linux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eveloping 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etting the AO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mplementing Android hardware li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ustomizing the user-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uilding the AO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mponents to write to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seful Embedded Linux tr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技術的に中身のある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Keyno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時間が限られている中で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技術要素を全て網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プレゼン資料が公開されているので詳細はそちらを参照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Beyond The Pho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Marko Gargenta (Marakar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電話以外のデバイスを例に挙げながら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要素技術についてのレクチャ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電話を超えるか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セットトップボックス，など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使っていろんなデバイスが考えられ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複合プリンタの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？ 下記のものがあるか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開発のフレームワーク，タッチスクリーン，グラフィックス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足りないものは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カスタムドライバ，カスタムライブラリ，アプリフレームワークのサポート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ew Home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足りないものを補え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ベースの複合プリンタに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V Box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足りないものは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，ストリーム関係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オープンだから，自分でいろいろと追加すれば，いろんなデバイスに搭載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itle : AllJoyn and the New Era of Peer-to-Peer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eaker : Greg Burns (Qualcomm(Qul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llJoy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と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QulC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が開発した，新しいモバイル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Peer-to-Peer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ベースにした近接関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llJoy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ソフトウェア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それぞれのデバイスで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デーモンが起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間通信はデーモンで直接接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それぞれのデバイスのデーモンは，他のデバイスのデーモンと通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フォーメーションはアドホッ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プロトコ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s wire-protoco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iF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もサポー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コンセプト提案のようなコマーシャル映像も流していた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人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様のデバイス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スマートフォン，タブレット，携帯ゲーム機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でそれぞれが繋がって仮想空間でゲームをしている．スマートフォンのユーザに着信があり数十分電話→終了後，また仮想空間に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．というような映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Android Intern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Karim Yaghmour (Opersy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O’Reilly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「組込み 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 System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」本の著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中身を以下の分類で，それぞれレクチャ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ndroid Con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verall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ystem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ardwar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ative User-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alv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ystem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ctivity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tock AOSP Ap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あくまで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ある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Keynot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並の参加者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プレゼン資料が公開されているので詳細はそちらを参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Title : Managing Android and the Complexity ins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 : Peter Vescuso (Black Duck Softwar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ライセンスの話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特にモバイル分野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はイノベーションをもたらしてい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8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ロジェクトあ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201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現在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こ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倍になっ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bile Phone (Android/iPhone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向け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でのコンプライアンスが検討事項になりつつあ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pylef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型のライセンスと，そうでないものを分けて考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潜在的にはライセンスコンフリクトが起こりう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PLv3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pach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のコンフリクトは解決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潜在的にはパテントの問題もあ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アプリケーションマーケットとライセン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unes Stor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アプリは頒布でき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マーケットではそのような制限は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変化の早いオープンソースで様々なライセンスをどう管理するか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例えば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ux Kernel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PLv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65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異なるコンポーネン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Kernel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ミラーは含まない．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65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うち約半分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xter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種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ライセン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相対するライセンス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非認証のライセン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早い変化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ヶ月でのメジャーバージョンアップ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トレーニング・ツール・プロセスを使って管理するのが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lack Duc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tePape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どを掲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blackducksoftware.com/and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Using the Debian Package Manager to Assemble Android-Based Mobile Phone Software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Magnus Back (Sony Ericss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Debia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パッケージ管理システムを用いて，ビルドシステムは一つにしてコンフィグの動的設定で，対象顧客用のソフトウェアをビルドする仕組み，につい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これまで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ony Ericso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50~20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顧客に携帯を出しているが，顧客によりスペック・詳細要件があり，古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roprietar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ソフトウェアでは，それぞ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コンフィグで解決してい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毎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＝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nf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ごと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のビルド時間＝ビルド時間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ヶ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携帯を出すために，顧客それぞれのビルドシステムが必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全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それぞれのプラットフォームに紐付け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開発者にとって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-P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大きすぎ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rebuil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コンポーネント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u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する良い方法が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理想としては，ビルドシステムは一つにして，コンフィグを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動的に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設定するだけで，対象顧客用のソフトウェアをビルドするような仕組み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ebia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パッケージ管理システムを用いて，実現できない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ebia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パッケージを異なるビルドシステム間のインタフェースファイル結果のプロトコルに使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12480" y="1196640"/>
            <a:ext cx="8507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Title : Trying to improve Android Boot Time With Readahe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Speaker : Tim Bird (Sony Americ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oogleT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出している．ブート時間短縮が必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現状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old Boot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で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秒かかる．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uspend/Resum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機能もあるがスタンバイの電力消費があ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一般的なブート時間をまずは測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どうやって計測したか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Bootchart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に追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いくつか非効率な部分を発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主には，パッケージスキャンとファイルアクセスルーチンの時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使ってみ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を使う理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ではな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がボトルネックになっているか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2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lass preloading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，と，パッケージスキャ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2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パッケージスキャンはシステム全体の起動時間の１０％を占めてい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アプリを変更しなくて良いから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私は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開発者だから．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は詳しくない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他のプロダクトにも応用できるかもしれな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ブート中に要求される前に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Read Data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ページキャッシュに読み込んでお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(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待ち時間削減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読み込みは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空き時間に実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注：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する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Total Data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及び 使える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サイクルの全体数は今回変えていな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2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ゴールは，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待ち時間をなくすこ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より良い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スケジューリングもなされ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するデータの決定方法が必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Minicore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Strace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というソフトウェアを使っ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テスト環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ony Internet TV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.6.23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スケジューラー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F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ポイ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バックグラウンドで動いているか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lass preloading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と，パッケージスキャンの時間が短縮されているか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結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 in background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で 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秒短縮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4.65%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改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noop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ケジューラはほとんど影響しな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プロセス優先度の変更は影響しな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A Walk Through the Anrdoid Sta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Aleksander “Sasa” Gargenta (Marakan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要素技術について，具体的にソースコード上の場所まで示しながらレクチャ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inux Distributio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との違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lib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ない．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X1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ない．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etc/passwd, /etc/fstab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が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あるのは，ドライバモデルなど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w Leve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層，プロセス・メモリ管理，共有ライブラリ，ネットワークスタッ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inder IP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xposed via /dev/b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untime info at /proc/misc/b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rivers/misc/binder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binder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shm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ログラム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dev/ashmem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して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ma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て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in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経由でファイルを共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m/ashmem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ashmem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Pm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rivers/misc/pmem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android_pmem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Wakeloc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rivers/android/power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wakelock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source.android.com/porting/power_managem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 (cont.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A Walk Through the Anrdoid Stack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続き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rivers/rtc/alarm.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clude/linux/android_alarm.h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ow Memory Kill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rivers/misc/lowmemorykiller.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curity/lowmem.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優先度については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sys/module/lowmemorykiller/parameter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Bi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SD li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らの変更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bitrary Android system-propertie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 Kernel Logger Driver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-specific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er/group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管理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-specific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servent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/etc/protocol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未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HAL (User-space Hardware Abstraction Lay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Native Daem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system/bin/servicemanager, /system/bin/v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urface Flinger, Audio Fling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Function Librar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bWebCore/Webkit, V8, SQLite, OpenSSL, FreeType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Dalv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ctivity Manager Service, Connectivity Manager Service, Additional Manager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などな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LC </a:t>
            </a: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概要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LC (Embedded Linux Conference 2011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組込み系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技術についての国際技術会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主催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Linux Foundation (L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昨年度まで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E Linux Forum (CELF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だったが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に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E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合併し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E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orkgrou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なっ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著名な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ンテナー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技術者をはじめ，世界の組込みメーカー系企業の技術者が多数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LC 2011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時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場所：サンフランシス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参加費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7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早期割引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5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参加者：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5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名で非常に盛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昨年より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名増加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前からでは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名増加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本からは若干名の参加，今年度は韓国系企業の参加者増が目立っ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ession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件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Sess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場で同時開催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詳細サイ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events.linuxfoundation.org/events/embedded-linux-conferen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elinux.org/ELC_2011_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Title : Android System Programming Tips and Tri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 : Tim Bird (Sony Ameri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のいろんな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Tip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紹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Gig, Repo, Build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Fast build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ke -j6 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ルチコア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がよ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port USE_CCACH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Fastboot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A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race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Debug 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mes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gc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ra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ootchar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DM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me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raceview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xb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プレゼン資料が公開されているので詳細はそちらを参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500" spc="-1" strike="noStrike">
                <a:solidFill>
                  <a:srgbClr val="330066"/>
                </a:solidFill>
                <a:latin typeface="Arial"/>
              </a:rPr>
              <a:t>ABS </a:t>
            </a:r>
            <a:r>
              <a:rPr b="1" lang="ja-JP" sz="3500" spc="-1" strike="noStrike">
                <a:solidFill>
                  <a:srgbClr val="330066"/>
                </a:solidFill>
                <a:latin typeface="Arial"/>
              </a:rPr>
              <a:t>概要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ABS (Android Builders Summit)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とは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の実装・搭載に注目した国際技術会議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アプリケーションにはフォーカスしていな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．今回が第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回目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主催は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The Linux Foundation (L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ABS 2011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日時：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PM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木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13(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ELC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と共催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場所：サンフランシス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参加費：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275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ELC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との同時申込みの場合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参加者：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ELC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と共催日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B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単独日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Session: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件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Sessio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会場で同時開催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詳細サイト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events.linuxfoundation.org/events/android-builders-summit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events.linuxfoundation.org/events/android-builders-summit/sli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itle : The Yocto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Speaker : Dirk Hohndel (Int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Yocto Projec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概要講演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スライド等はなく，口頭のみでの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Yocto Project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概要の講演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Yocto Project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ではな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様々なハードウェア環境で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を作るための，テンプレートや基盤，ツールを提供す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月に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Version 1.0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をリリースし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Title : Becoming Part of the Linux Kernel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 : Arnd Bergmann (IBM, Lina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次の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Linux Kernel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での注目パートについての「思い」をレクチャ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PC/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サーバ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純粋な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組込み，以外の分野での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利用の増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Free 3D 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グラフィックスの流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ドライバのオープン化の流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要は「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Linux Kernel Mainline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にコミットしよう」というこ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特にグラフィック関係のドライバのオープン化の話が最近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になってきてい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Identifying Embedded Real-Time Latency Issues: I-Cache and Loc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Frank Rowand (Sony Americ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Real-Tim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系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関係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onferenc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毎年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2,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回発表している人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MP ARM 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の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ミスヒットによる性能劣化についての検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じめに最大割り込み禁止時間を測定したところ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o_local_timer(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が最大割り込み禁止時間を作っている一つの要因とわ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使用ツ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trac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rqsoff tracer (latency-format option enabl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do_local_timer()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について，ミスヒットとストール時間をみて検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検討に使用してい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6.23.17-rt1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6.29.6-rt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は課題抽出が目的で，改善はフォーカス外．ただし思いつく改善案を提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増や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を減らす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のテストはしていな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クリティカルなコード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I-Cache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ロック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を減らす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ただ今回のターゲットボード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ロックに対応していな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クリティカルなコードを高速なメモリに配置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時のコストを減らす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ただ今回のターゲットボードは高速なメモリを実装していな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2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追加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時のコストを減ら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ハードを変更して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2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有無での検討実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ほとんど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1 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ら補填される．ただし，一部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らも補填されない時がある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04:25:47Z</dcterms:created>
  <dc:creator/>
  <dc:description/>
  <dc:language>en-US</dc:language>
  <cp:lastModifiedBy>Shinsuke Kato</cp:lastModifiedBy>
  <dcterms:modified xsi:type="dcterms:W3CDTF">2011-05-20T06:48:40Z</dcterms:modified>
  <cp:revision>151</cp:revision>
  <dc:subject/>
  <dc:title>Embedded Linux Conference 2011 Android Builders Summit 2011 Report</dc:title>
</cp:coreProperties>
</file>